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8FF1-F170-4AB5-8D6F-C73E0D0F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1DE-1900-4DCA-A2C2-6F77C3A8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3EB-2C08-467E-BE6A-9F981A63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A9F-8139-472B-9B79-8FD6BF67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B03C-A7F2-4E18-9B9B-AF6AF05A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998F-C66B-40CC-883A-BC7FFADB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A423-20A1-4A81-A791-50004757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8204-C8FE-4CD2-91A6-136A86D7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DDE0-49C6-4817-8BCE-B75296D7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F36B-7340-443D-95AE-C3C778AF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D1C5-2F11-4B65-8165-F0CE57A0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88C-9D66-4DF6-8F77-258CF1CD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58E3-CF8F-454F-913C-53F745C1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F55E-4C26-4DED-8F09-862EEE7F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5A41-7827-4E41-A610-E863F6EF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F31E-57D4-430E-A4FA-E7D2D12B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CBD9-7861-4B94-8011-74AA821A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4D3-56C9-43E8-A3D5-6FA63917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D25-5182-421E-98FC-5FCE6498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2BA-9BD2-4A57-A7A4-7AACC27D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2EF-BD5B-4882-AAB5-42771885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8826-6226-49A9-8C53-BE57DBE2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F4C9-5EA4-4574-A32A-BF395827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B152-BDE0-43C3-830F-E6068E57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864F-6908-447C-A440-5C7D9C35E48C}" type="slidenum">
              <a:rPr b="0" lang="en-US" sz="10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6324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4B9D-8958-4E4B-827E-82595C9626D2}" type="slidenum">
              <a:rPr b="0" lang="en-US" sz="10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bc.co.uk/schools/scienceclips/ages/10_11/changing_circuits.s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467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How does electricity move?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520" y="19807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ircui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95280" y="914040"/>
            <a:ext cx="73915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ity is the movement of electrons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f course…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only move through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ircu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352680" y="2590920"/>
            <a:ext cx="496584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371600" y="1066680"/>
            <a:ext cx="739152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ircuit is an unbroken path that starts and finishes in the same plac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2362320"/>
            <a:ext cx="632448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447920" y="1219320"/>
            <a:ext cx="723888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ircuits begin and end at the source of electricit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3062160" cy="306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209680" y="2362320"/>
            <a:ext cx="3121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95480" y="2514600"/>
            <a:ext cx="4496040" cy="2384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904760" y="1066680"/>
            <a:ext cx="6933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 electrons flow from one side of the power source ,through conductors, and back to the other side of the power source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 light bulb or other device can be placed on the circuit so the electrons will make it work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905120" y="1371240"/>
            <a:ext cx="67816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en there are no gaps or open spots in the circuit, it is a closed circuit and the electrons flow continuousl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09880" y="4191120"/>
            <a:ext cx="2981520" cy="1581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V="1">
            <a:off x="4724280" y="5790960"/>
            <a:ext cx="838440" cy="15228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800600" y="4419720"/>
            <a:ext cx="838080" cy="30456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3067200" cy="39625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362320" y="411444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f there is a gap in the circuit, the electrons stop flow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s is called an open circuit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switch can open and close a circui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00200" y="23623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www.bbc.co.uk/schools/scienceclips/ages/10_11/changing_circuits.shtm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3733920"/>
            <a:ext cx="470556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lick here to try a circui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8:14:09Z</dcterms:created>
  <dc:creator>Teacher</dc:creator>
  <dc:description/>
  <dc:language>en-US</dc:language>
  <cp:lastModifiedBy>Teacher</cp:lastModifiedBy>
  <dcterms:modified xsi:type="dcterms:W3CDTF">2006-12-13T18:05:17Z</dcterms:modified>
  <cp:revision>10</cp:revision>
  <dc:subject/>
  <dc:title>How does electricity move?</dc:title>
</cp:coreProperties>
</file>